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510-C935-4B7A-B572-978BEDFA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F93-EDDE-4E4A-BF52-FF734E33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3A8-54C6-4B80-A6DC-6AEC5DF0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F0F-949B-4435-8F4A-7C8EC502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C8F-27C3-4061-8CD6-C198E4DF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4E1-D06A-4157-93AF-5A83A043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5A6-442E-4C10-A756-5487837B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5E3-9D81-4FC5-AFCD-BBAE8099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D16-7867-4658-B1DF-AA0D6140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0FF-1FEB-4C08-901C-4333699F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DB5-50B2-4244-83CA-14883C9D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D22-A59C-4106-B517-35F39E7D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56AD-A764-42C6-AC3A-B1DEA7151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flipV="1">
            <a:off x="533160" y="-152280"/>
            <a:ext cx="23619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1828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tart up you should go into 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44680" y="22860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box of your measured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43200" y="228600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 will construct a point at the intersection of the two lines. Since the two lines were automatically projected to the plane, the point will be constructed o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28800" y="6858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alog box lets me choose the lines used to construct the point. Pick from the window o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91320" y="144792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400800" y="1447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43000" y="228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box of your constructed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95480" y="609480"/>
            <a:ext cx="586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I have the minimum features required to create a 3 2 1 alignment. (Or frame in 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, line and a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6668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other alignment options. 99% of the time you will use a 3 2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980720" y="91440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47920" y="152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you choose the features for your al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990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144792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144792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105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heck this box and you can construct a line from point reducible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523880" y="3276360"/>
            <a:ext cx="10670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0892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12193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from window or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400440" y="182880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476760" y="18288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0" y="533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the completed dialog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68720" y="228600"/>
            <a:ext cx="38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box of your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09680" y="533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you choose accept, the view of the part will be squared with your alignment and viewed from the 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057400" y="380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ption allows you to review your measured and constructed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914400" y="-914400"/>
            <a:ext cx="10667880" cy="800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76920" y="-2286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heck box toggles between DEFINE a plane for 3D measured features or always uses the LAST plane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666880" y="5335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52480" y="1522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pick from the window or the screen of the feature you want to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533520"/>
            <a:ext cx="8380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400800" y="533520"/>
            <a:ext cx="457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1295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choose to set Nominals &amp; Tolerances at thi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66720" y="2438280"/>
            <a:ext cx="2971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36576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t option is very user 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62720" y="426708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5791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ighlights the feature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5105520"/>
            <a:ext cx="75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37440" y="1371600"/>
            <a:ext cx="560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for most measurement routines, you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measuring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1066320" y="68544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762120" y="-609480"/>
            <a:ext cx="10668240" cy="800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73120" y="15228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of the measured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914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ints 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276360" y="11430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or fla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114800" y="2438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4240" y="266688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name or d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5053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gives you the option to set Nominals &amp; Tolerances. You can do it now or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800600" y="335232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51055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button to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5181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button to 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209680" y="411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495680" y="411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52280" y="-914400"/>
            <a:ext cx="10667880" cy="800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86200" y="1905120"/>
            <a:ext cx="5257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you accept the measured feature it automatically assumes that you will measure another same fe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only assumes next feature when AUTO PLANE is turn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measure another or hit the back button or escape to can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143000" y="3276720"/>
            <a:ext cx="27432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2120" y="-533520"/>
            <a:ext cx="10668240" cy="8001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55960" y="1488960"/>
            <a:ext cx="55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you can measure a 2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3D option to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’t remember ever measuring a 3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600200" y="7621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38080" y="763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uto plane turned on, it will default to the last plane mea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hit enter or the front button to acc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choose DEFINE and measure one, click one in the dialog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pick one FROM SCREEN by clicking on the plane seen on the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19320" y="228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box of your measured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75248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, similar reports and options as the pl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200400" y="1142640"/>
            <a:ext cx="3657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038480" y="2438280"/>
            <a:ext cx="2819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76720" y="2666880"/>
            <a:ext cx="3581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800240" y="28954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276720" y="3124080"/>
            <a:ext cx="3581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562720" y="312408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762120" y="-571680"/>
            <a:ext cx="10668240" cy="8001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95480" y="2438280"/>
            <a:ext cx="5029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again, after you accept the feature, it automatically assumes that you will measure another line o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ample I will measure another l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33160" y="3124080"/>
            <a:ext cx="236196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14:39:26Z</dcterms:created>
  <dc:creator>Jim Hacker</dc:creator>
  <dc:description/>
  <dc:language>en-US</dc:language>
  <cp:lastModifiedBy>Bruce</cp:lastModifiedBy>
  <dcterms:modified xsi:type="dcterms:W3CDTF">2001-11-19T21:07:06Z</dcterms:modified>
  <cp:revision>5</cp:revision>
  <dc:subject/>
  <dc:title>PowerPoint Presentation</dc:title>
</cp:coreProperties>
</file>